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8A5-5B1C-4ECD-BC29-9279695D4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id they think o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mitations?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1D5-7C07-4A36-A5C5-A1DB50E2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189-0773-4ADC-86B6-56B962CF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F3F-69E4-4A23-B558-878C9B80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491-3369-4DBD-A957-653C041F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99D-24F3-4760-85E1-19A18C86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573E-7E92-48E3-9F5E-AB0930C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5F9D-6915-4471-9A05-95BF806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602E-9F63-4EB0-814E-A059B0F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097-278B-4487-8429-CC2D6F3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1277-EAA1-43B6-B3D0-5F795ED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E5F-ED31-4D1D-9749-60AA3DDA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B5C-E38C-473F-8215-CCFAC59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C5A-80EF-4546-B1AC-2AF1AB7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40EC-9A0B-4A27-94C5-83E4999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D2C7-6EFD-4252-959A-7C4CB644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D3E-1B17-4A1D-B94C-6FDE9D9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300-B418-4A0B-85D0-0AB212A3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F35-0989-41B2-A57F-430D424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CEB-5D79-41AA-BB5C-1E842A55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949-76A0-4A64-B64C-2435543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0D1-1B6C-44D2-888E-C56F203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ADE-3A6E-49DA-B5BF-BBEAE5FE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F73-E86B-4D5F-A77C-FCFF967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57D-1670-42A0-98A2-CBD7F44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DE22-5247-4E9B-87F9-D31638DAFE0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1DB2-5906-4CA4-BF34-546BDCF6317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: the Gene Ontology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“because you know sometimes</a:t>
            </a:r>
            <a:br>
              <a:rPr sz="36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words have two meanings”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lia Ire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u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, Cambridge, U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process: the broad goal or ‘purpose’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 metabol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tship behavi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amine receptor signaling pathw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Ps work together in a certain process; a set of functions contribute to building up a proc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erms are composed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GO 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(86% of GO terms defin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to other GO ter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00+ ter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strings may be ambiguous; go by what the definition s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synonyms are ‘related concepts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search a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er, narrower, exact or rel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stored in synonyms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-specific terms use the phrase 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 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- ‘in the sense of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tologies are structured as a hierarchical directed acyclic grap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are linked by two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-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822cd"/>
                </a:solidFill>
                <a:latin typeface="Webdings"/>
                <a:ea typeface="Web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can have more than one par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62640" y="2043000"/>
            <a:ext cx="798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038480"/>
            <a:ext cx="0" cy="1295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038480"/>
            <a:ext cx="3352680" cy="13716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114800"/>
            <a:ext cx="0" cy="129528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2590920"/>
            <a:ext cx="152424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90920"/>
            <a:ext cx="152388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2880" y="19987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Tahoma"/>
              </a:rPr>
              <a:t>part-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from a child term all the way up to its top-level parent(s) must always be tr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683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what abou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Path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d component ontology structur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"right" or "wrong" answ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the biological community, words can mean different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broad terms are difficult to define (eg. cell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you define a term determines what ontology it goes in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mponent: xxx compl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function: xxx activ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“strengths” of part-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always part of B and B alway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sometimes part of B and B sometime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ries to use the strongest form but it is not always possible (eg. cellular componen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’s in a nam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org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re would you put ‘cell wall’ and how would you define it? Does it require any children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would you deal with viruses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ms give you greater control over names that have different meanings in different spe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. TCA cycle enzyme complex (sensu Bacteria) vs TCA cycle enzyme complex (sensu Eukaryot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definitions can dictate ontology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Lunch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r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GO terms to represent the activities and localizations of a gene pro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tations made up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object: gene or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erm ID - GO:000367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for annot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 code (another vocabul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6320" y="3408480"/>
            <a:ext cx="1078200" cy="78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38160">
            <a:solidFill>
              <a:srgbClr val="356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38160">
            <a:solidFill>
              <a:srgbClr val="ff9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his study, we report the isolation and molecular characterization of the B. napus PERK1 cDNA, that is predicted to encode a nov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eptor-like kina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 We have shown that like other plant RLKs, the kinase domain of PERK1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erine/threonine kinase activ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In addition, the location of a PERK1-GTP fusion protein to the plasma membrane supports the prediction that PERK1 is 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ntegral membrane prote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these kinases have been implicated in early stages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wound respo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Function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tein serine/threonine kinase a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4674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Component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integral to plasma membran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5887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cess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response to wound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9611 (NA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 (again)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V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 is still being developed and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areas lack detai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ies contain err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atabases join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tools being develo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king links with other databases and ontologies, eg. MetaCyc, UMLS, OBO proj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names for the same conce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: “a controlled vocabulary that can be applied to all organisms even as knowledge of gene and protein roles in cells is accumulating and changin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Open Biological Ontolog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, species-neutral way of representing biolo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ructured networks of defined terms to describe gene product attribu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like a phrase book than a biology text boo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ystem of nomenclature or a list of gene produ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doesn’t attempt to cover all aspects of biology or evolutionary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way to unify datab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aims to provide a set of terms that can be used to describe gene product attributes. What information might we want to capture about a gene produ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the gene product do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nd when does it a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perform these activ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vers ‘normal’ functions and proces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thological 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xperimental condi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component: where a gene product a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asome comple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zyme complexes in the component ontology should refer to places, not activ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function: activities or “jobs” of a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oxide dismutase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bin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 transporter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 product may have several functions; a function term refers to a single reaction or activity, not a gene produ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39:19Z</dcterms:created>
  <dc:creator>Amelia Ireland</dc:creator>
  <dc:description/>
  <dc:language>en-US</dc:language>
  <cp:lastModifiedBy>aji</cp:lastModifiedBy>
  <dcterms:modified xsi:type="dcterms:W3CDTF">2003-11-27T14:20:49Z</dcterms:modified>
  <cp:revision>18</cp:revision>
  <dc:subject/>
  <dc:title>GO : the Gene Ontology</dc:title>
</cp:coreProperties>
</file>