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1E52-7DED-4819-99F5-C1BEFC1786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produced by external services (Gulam Patel). Note that at the end of the animation you need to click on the outside edge of the slide to allow you to move to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88468-4E41-4D7C-B0A8-8E5D4E4B8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9424D-57DA-466F-A2B2-FB3DB1E7D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6D31F-3DE9-4880-BCB2-823822A42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C65D3-C14F-4DFE-87DF-794C33066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20DAC-A603-4E6D-BE9C-63E353080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3ADD8-BF5E-4C36-A51C-F75FBCC8E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89A95-BEAD-4C72-842B-4F90C4224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2A42C-3AEF-402A-B8D1-7F03F1942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C6CD0-D496-4793-B0E4-A183D89B9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798D5-9B8C-498C-BDFD-C804A9992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64800-6764-49CD-87E7-DE73B0357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DFE2D-696A-4F99-9D39-4409923AF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7E85-9115-4176-9320-0372E10B8C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fore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ShockwaveFlash1"/>
          <p:cNvGraphicFramePr/>
          <p:nvPr/>
        </p:nvGraphicFramePr>
        <p:xfrm>
          <a:off x="250920" y="981000"/>
          <a:ext cx="8569080" cy="5543640"/>
        </p:xfrm>
        <a:graphic>
          <a:graphicData uri="http://schemas.openxmlformats.org/presentationml/2006/ole">
            <p:oleObj r:id="rId1" spid="">
              <p:embed/>
              <p:pic>
                <p:nvPicPr>
                  <p:cNvPr id="50" name="ShockwaveFlash1" descr=""/>
                  <p:cNvPicPr/>
                  <p:nvPr/>
                </p:nvPicPr>
                <p:blipFill>
                  <a:blip r:embed="rId2"/>
                  <a:stretch/>
                </p:blipFill>
                <p:spPr>
                  <a:xfrm>
                    <a:off x="250920" y="981000"/>
                    <a:ext cx="8569080" cy="5543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ter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so 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26:14Z</dcterms:created>
  <dc:creator>Gulam</dc:creator>
  <dc:description/>
  <dc:language>en-US</dc:language>
  <cp:lastModifiedBy>Watson</cp:lastModifiedBy>
  <dcterms:modified xsi:type="dcterms:W3CDTF">2006-03-15T15:45:53Z</dcterms:modified>
  <cp:revision>33</cp:revision>
  <dc:subject/>
  <dc:title>Slide 1</dc:title>
</cp:coreProperties>
</file>